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D73-EE6D-4C21-A308-774857AF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1E2-611F-43B2-9E25-6564A61D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052-1DE5-43A0-B556-651054AD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C06-F2E9-4AFA-8936-DCD9D214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931-2604-48BB-9950-F1976D11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76D-2A75-4B7C-A207-3A1FED5D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63F-7973-4B50-9804-C510BB23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253-9BB0-4C28-8380-9944167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8CD-0943-43E6-ADE0-5B3D9C76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ACC-8701-415E-AF0E-081CEDE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74E-8F8E-49C1-821E-8BCBDAC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062-32D8-471F-B27A-7A5E40E8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1EB-F4F8-4290-B259-58C31848C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70102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Medina Colón Ant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Sojo Hernández Fer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E01852_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3751200" cy="346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838080"/>
            <a:ext cx="5562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den Abier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2590920"/>
            <a:ext cx="5790960" cy="5562360"/>
            <a:chOff x="533520" y="2590920"/>
            <a:chExt cx="5790960" cy="5562360"/>
          </a:xfrm>
        </p:grpSpPr>
        <p:pic>
          <p:nvPicPr>
            <p:cNvPr id="93" name="MVC-007F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533520" y="2590920"/>
              <a:ext cx="579096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58080" y="3397320"/>
              <a:ext cx="1158120" cy="604800"/>
            </a:xfrm>
            <a:prstGeom prst="leftRightArrow">
              <a:avLst>
                <a:gd name="adj1" fmla="val 50000"/>
                <a:gd name="adj2" fmla="val 38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MIGO A LA VIS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VC-001F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4440" y="3225960"/>
            <a:ext cx="5829120" cy="4317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AR BAYONE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VC-010F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57200" y="2895480"/>
            <a:ext cx="5829480" cy="3981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TRO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VC-016F" descr=""/>
          <p:cNvPicPr/>
          <p:nvPr/>
        </p:nvPicPr>
        <p:blipFill>
          <a:blip r:embed="rId1"/>
          <a:stretch/>
        </p:blipFill>
        <p:spPr>
          <a:xfrm>
            <a:off x="514440" y="2743200"/>
            <a:ext cx="5829120" cy="4610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BO ABIER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VC-013F" descr=""/>
          <p:cNvPicPr/>
          <p:nvPr/>
        </p:nvPicPr>
        <p:blipFill>
          <a:blip r:embed="rId1"/>
          <a:stretch/>
        </p:blipFill>
        <p:spPr>
          <a:xfrm>
            <a:off x="514440" y="2819520"/>
            <a:ext cx="5829120" cy="450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MPREN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VC-011F" descr=""/>
          <p:cNvPicPr/>
          <p:nvPr/>
        </p:nvPicPr>
        <p:blipFill>
          <a:blip r:embed="rId1"/>
          <a:stretch/>
        </p:blipFill>
        <p:spPr>
          <a:xfrm>
            <a:off x="514440" y="2819520"/>
            <a:ext cx="5829120" cy="4367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SEN FUE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MVC-005F" descr=""/>
          <p:cNvPicPr/>
          <p:nvPr/>
        </p:nvPicPr>
        <p:blipFill>
          <a:blip r:embed="rId1"/>
          <a:stretch/>
        </p:blipFill>
        <p:spPr>
          <a:xfrm>
            <a:off x="514440" y="3133800"/>
            <a:ext cx="5829120" cy="4502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AN FUE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VC-003F" descr=""/>
          <p:cNvPicPr/>
          <p:nvPr/>
        </p:nvPicPr>
        <p:blipFill>
          <a:blip r:embed="rId1"/>
          <a:stretch/>
        </p:blipFill>
        <p:spPr>
          <a:xfrm>
            <a:off x="514440" y="3219480"/>
            <a:ext cx="5829120" cy="433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A DE MARCH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VC-010F" descr=""/>
          <p:cNvPicPr/>
          <p:nvPr/>
        </p:nvPicPr>
        <p:blipFill>
          <a:blip r:embed="rId1"/>
          <a:stretch/>
        </p:blipFill>
        <p:spPr>
          <a:xfrm>
            <a:off x="514440" y="2743200"/>
            <a:ext cx="5829120" cy="450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5123600">
            <a:off x="2057400" y="4190760"/>
            <a:ext cx="2133360" cy="21337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3349" y="10623"/>
                </a:moveTo>
                <a:arcTo wR="-7453" hR="-7453" stAng="-10718351" swAng="-15647863"/>
                <a:lnTo>
                  <a:pt x="8820" y="21417"/>
                </a:lnTo>
                <a:arcTo wR="10800" hR="10800" stAng="6033786" swAng="15647863"/>
                <a:lnTo>
                  <a:pt x="24296" y="11121"/>
                </a:lnTo>
                <a:lnTo>
                  <a:pt x="19820" y="15389"/>
                </a:lnTo>
                <a:lnTo>
                  <a:pt x="15552" y="10913"/>
                </a:lnTo>
                <a:close/>
              </a:path>
            </a:pathLst>
          </a:cu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UEGO Y MOVIMIENT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os equipos de fusileros de la escuadra, le proporcionan al jefe de escuadra dos elementos con los cuales ejecutar el fuego y movimiento. Un equipo de fusileros es el elemento de movimiento, mientras que el otro es el elemento apoyo de fueg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33336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SCUADRA DE FUSIL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unidad básica de tiro, instrucción y  adiestramiento de la infant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617220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GANIZACIÓN</a:t>
            </a:r>
            <a:r>
              <a:rPr b="0" lang="es-ES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MX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cuadra de fusileros 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id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  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Un jefe de escuad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jefes de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usileros granad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usileros  AT-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   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usile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048120"/>
            <a:ext cx="228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533520" y="1371600"/>
            <a:ext cx="5790960" cy="7391160"/>
            <a:chOff x="533520" y="1371600"/>
            <a:chExt cx="5790960" cy="7391160"/>
          </a:xfrm>
        </p:grpSpPr>
        <p:sp>
          <p:nvSpPr>
            <p:cNvPr id="125" name=""/>
            <p:cNvSpPr/>
            <p:nvPr/>
          </p:nvSpPr>
          <p:spPr>
            <a:xfrm>
              <a:off x="599400" y="8242560"/>
              <a:ext cx="446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s-ES" sz="1800" spc="-1" strike="noStrike">
                  <a:solidFill>
                    <a:srgbClr val="ff0000"/>
                  </a:solidFill>
                  <a:latin typeface="Times New Roman"/>
                </a:rPr>
                <a:t>FUEGO Y MOVIMIENT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Times New Roman"/>
                </a:rPr>
                <a:t>                                </a:t>
              </a:r>
              <a:r>
                <a:rPr b="1" lang="es-ES" sz="1800" spc="-1" strike="noStrike">
                  <a:solidFill>
                    <a:srgbClr val="ff0000"/>
                  </a:solidFill>
                  <a:latin typeface="Times New Roman"/>
                </a:rPr>
                <a:t>INDIVIDUALES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5790960" cy="643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47640" y="6264720"/>
              <a:ext cx="8013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18320" y="3974400"/>
              <a:ext cx="6868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3480" y="4078440"/>
              <a:ext cx="6868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62120" y="1788480"/>
              <a:ext cx="6868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B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2438280" y="758520"/>
            <a:ext cx="1607040" cy="399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09480" y="1600200"/>
            <a:ext cx="5715000" cy="6972120"/>
            <a:chOff x="609480" y="1600200"/>
            <a:chExt cx="5715000" cy="69721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3125" t="0" r="3125" b="0"/>
            <a:stretch/>
          </p:blipFill>
          <p:spPr>
            <a:xfrm>
              <a:off x="703080" y="1600200"/>
              <a:ext cx="5621400" cy="62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09480" y="8010360"/>
              <a:ext cx="54403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FUEGO Y MOVIMIENTOS DE GRUPO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 txBox="1"/>
          <p:nvPr/>
        </p:nvSpPr>
        <p:spPr>
          <a:xfrm>
            <a:off x="2309760" y="904320"/>
            <a:ext cx="1769400" cy="49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334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90920" y="605880"/>
            <a:ext cx="1483560" cy="399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807732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CIÓN DEL FUEGO MIENTRAS SE EMPLEA FUEGO Y MOVIMIENTO </a:t>
            </a:r>
            <a:r>
              <a:rPr b="0" lang="es-MX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OVIMIENTO FRENTE DERECHA).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COLUMNA DE MAR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17640" y="4815000"/>
            <a:ext cx="1600200" cy="685800"/>
            <a:chOff x="2717640" y="4815000"/>
            <a:chExt cx="1600200" cy="685800"/>
          </a:xfrm>
        </p:grpSpPr>
        <p:sp>
          <p:nvSpPr>
            <p:cNvPr id="144" name=""/>
            <p:cNvSpPr/>
            <p:nvPr/>
          </p:nvSpPr>
          <p:spPr>
            <a:xfrm>
              <a:off x="2717640" y="4815000"/>
              <a:ext cx="160020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05920" y="4930560"/>
              <a:ext cx="11296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914400" y="4191120"/>
            <a:ext cx="1697040" cy="457200"/>
            <a:chOff x="914400" y="4191120"/>
            <a:chExt cx="1697040" cy="457200"/>
          </a:xfrm>
        </p:grpSpPr>
        <p:sp>
          <p:nvSpPr>
            <p:cNvPr id="147" name=""/>
            <p:cNvSpPr/>
            <p:nvPr/>
          </p:nvSpPr>
          <p:spPr>
            <a:xfrm>
              <a:off x="914400" y="419112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56680" y="430524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38080" y="2971800"/>
            <a:ext cx="1744920" cy="609480"/>
            <a:chOff x="838080" y="2971800"/>
            <a:chExt cx="1744920" cy="609480"/>
          </a:xfrm>
        </p:grpSpPr>
        <p:sp>
          <p:nvSpPr>
            <p:cNvPr id="150" name=""/>
            <p:cNvSpPr/>
            <p:nvPr/>
          </p:nvSpPr>
          <p:spPr>
            <a:xfrm>
              <a:off x="838080" y="2971800"/>
              <a:ext cx="174492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2640" y="3125880"/>
              <a:ext cx="1374480" cy="302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43400" y="5562720"/>
            <a:ext cx="1622520" cy="457200"/>
            <a:chOff x="4343400" y="5562720"/>
            <a:chExt cx="1622520" cy="457200"/>
          </a:xfrm>
        </p:grpSpPr>
        <p:sp>
          <p:nvSpPr>
            <p:cNvPr id="153" name=""/>
            <p:cNvSpPr/>
            <p:nvPr/>
          </p:nvSpPr>
          <p:spPr>
            <a:xfrm>
              <a:off x="4343400" y="5562720"/>
              <a:ext cx="162252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5240" y="5676840"/>
              <a:ext cx="1271520" cy="22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19720" y="6781680"/>
            <a:ext cx="1600200" cy="457200"/>
            <a:chOff x="4419720" y="6781680"/>
            <a:chExt cx="1600200" cy="457200"/>
          </a:xfrm>
        </p:grpSpPr>
        <p:sp>
          <p:nvSpPr>
            <p:cNvPr id="156" name=""/>
            <p:cNvSpPr/>
            <p:nvPr/>
          </p:nvSpPr>
          <p:spPr>
            <a:xfrm>
              <a:off x="4419720" y="678168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3840" y="6894720"/>
              <a:ext cx="136836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914400" y="5562720"/>
            <a:ext cx="1695600" cy="457200"/>
            <a:chOff x="914400" y="5562720"/>
            <a:chExt cx="1695600" cy="457200"/>
          </a:xfrm>
        </p:grpSpPr>
        <p:sp>
          <p:nvSpPr>
            <p:cNvPr id="159" name=""/>
            <p:cNvSpPr/>
            <p:nvPr/>
          </p:nvSpPr>
          <p:spPr>
            <a:xfrm>
              <a:off x="914400" y="5562720"/>
              <a:ext cx="16956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56680" y="5676840"/>
              <a:ext cx="121104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43400" y="4191120"/>
            <a:ext cx="1600200" cy="457200"/>
            <a:chOff x="4343400" y="4191120"/>
            <a:chExt cx="1600200" cy="457200"/>
          </a:xfrm>
        </p:grpSpPr>
        <p:sp>
          <p:nvSpPr>
            <p:cNvPr id="162" name=""/>
            <p:cNvSpPr/>
            <p:nvPr/>
          </p:nvSpPr>
          <p:spPr>
            <a:xfrm>
              <a:off x="4343400" y="419112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305240"/>
              <a:ext cx="114300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922320" y="6781680"/>
            <a:ext cx="1687680" cy="457200"/>
            <a:chOff x="922320" y="6781680"/>
            <a:chExt cx="1687680" cy="457200"/>
          </a:xfrm>
        </p:grpSpPr>
        <p:sp>
          <p:nvSpPr>
            <p:cNvPr id="165" name=""/>
            <p:cNvSpPr/>
            <p:nvPr/>
          </p:nvSpPr>
          <p:spPr>
            <a:xfrm>
              <a:off x="922320" y="6781680"/>
              <a:ext cx="16876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3160" y="6895800"/>
              <a:ext cx="1205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7080" y="2895480"/>
            <a:ext cx="1590840" cy="609840"/>
            <a:chOff x="4267080" y="2895480"/>
            <a:chExt cx="1590840" cy="609840"/>
          </a:xfrm>
        </p:grpSpPr>
        <p:sp>
          <p:nvSpPr>
            <p:cNvPr id="168" name=""/>
            <p:cNvSpPr/>
            <p:nvPr/>
          </p:nvSpPr>
          <p:spPr>
            <a:xfrm>
              <a:off x="4267080" y="2895480"/>
              <a:ext cx="159084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4240" y="3047760"/>
              <a:ext cx="11361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ROMBO CER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14760" y="4002120"/>
            <a:ext cx="1600200" cy="685800"/>
            <a:chOff x="2714760" y="4002120"/>
            <a:chExt cx="1600200" cy="685800"/>
          </a:xfrm>
        </p:grpSpPr>
        <p:sp>
          <p:nvSpPr>
            <p:cNvPr id="173" name=""/>
            <p:cNvSpPr/>
            <p:nvPr/>
          </p:nvSpPr>
          <p:spPr>
            <a:xfrm>
              <a:off x="2714760" y="4002120"/>
              <a:ext cx="160020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3040" y="4117680"/>
              <a:ext cx="11296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765520" y="2617920"/>
            <a:ext cx="1697040" cy="457200"/>
            <a:chOff x="2765520" y="2617920"/>
            <a:chExt cx="1697040" cy="457200"/>
          </a:xfrm>
        </p:grpSpPr>
        <p:sp>
          <p:nvSpPr>
            <p:cNvPr id="176" name=""/>
            <p:cNvSpPr/>
            <p:nvPr/>
          </p:nvSpPr>
          <p:spPr>
            <a:xfrm>
              <a:off x="2765520" y="261792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7800" y="273204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00200" y="3189240"/>
            <a:ext cx="1828800" cy="696960"/>
            <a:chOff x="1600200" y="3189240"/>
            <a:chExt cx="1828800" cy="696960"/>
          </a:xfrm>
        </p:grpSpPr>
        <p:sp>
          <p:nvSpPr>
            <p:cNvPr id="179" name=""/>
            <p:cNvSpPr/>
            <p:nvPr/>
          </p:nvSpPr>
          <p:spPr>
            <a:xfrm>
              <a:off x="1600200" y="3189240"/>
              <a:ext cx="1828800" cy="6969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0520" y="3365280"/>
              <a:ext cx="1440360" cy="346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19520" y="5334120"/>
            <a:ext cx="1622160" cy="461880"/>
            <a:chOff x="2819520" y="5334120"/>
            <a:chExt cx="1622160" cy="461880"/>
          </a:xfrm>
        </p:grpSpPr>
        <p:sp>
          <p:nvSpPr>
            <p:cNvPr id="182" name=""/>
            <p:cNvSpPr/>
            <p:nvPr/>
          </p:nvSpPr>
          <p:spPr>
            <a:xfrm>
              <a:off x="2819520" y="5334120"/>
              <a:ext cx="1622160" cy="46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51000" y="5449680"/>
              <a:ext cx="1271160" cy="229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14800" y="4724280"/>
            <a:ext cx="1600200" cy="685800"/>
            <a:chOff x="4114800" y="4724280"/>
            <a:chExt cx="1600200" cy="685800"/>
          </a:xfrm>
        </p:grpSpPr>
        <p:sp>
          <p:nvSpPr>
            <p:cNvPr id="185" name=""/>
            <p:cNvSpPr/>
            <p:nvPr/>
          </p:nvSpPr>
          <p:spPr>
            <a:xfrm>
              <a:off x="4114800" y="4724280"/>
              <a:ext cx="16002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8920" y="4893840"/>
              <a:ext cx="1368360" cy="34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809880" y="3276720"/>
            <a:ext cx="1828800" cy="457200"/>
            <a:chOff x="3809880" y="3276720"/>
            <a:chExt cx="1828800" cy="457200"/>
          </a:xfrm>
        </p:grpSpPr>
        <p:sp>
          <p:nvSpPr>
            <p:cNvPr id="188" name=""/>
            <p:cNvSpPr/>
            <p:nvPr/>
          </p:nvSpPr>
          <p:spPr>
            <a:xfrm>
              <a:off x="3809880" y="3276720"/>
              <a:ext cx="18288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0880" y="3390840"/>
              <a:ext cx="1306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295280" y="4952880"/>
            <a:ext cx="1832040" cy="457200"/>
            <a:chOff x="1295280" y="4952880"/>
            <a:chExt cx="1832040" cy="457200"/>
          </a:xfrm>
        </p:grpSpPr>
        <p:sp>
          <p:nvSpPr>
            <p:cNvPr id="191" name=""/>
            <p:cNvSpPr/>
            <p:nvPr/>
          </p:nvSpPr>
          <p:spPr>
            <a:xfrm>
              <a:off x="1295280" y="4952880"/>
              <a:ext cx="183204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57000" y="5067000"/>
              <a:ext cx="1308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85800" y="4114800"/>
            <a:ext cx="1689120" cy="457200"/>
            <a:chOff x="685800" y="4114800"/>
            <a:chExt cx="1689120" cy="457200"/>
          </a:xfrm>
        </p:grpSpPr>
        <p:sp>
          <p:nvSpPr>
            <p:cNvPr id="194" name=""/>
            <p:cNvSpPr/>
            <p:nvPr/>
          </p:nvSpPr>
          <p:spPr>
            <a:xfrm>
              <a:off x="685800" y="4114800"/>
              <a:ext cx="1689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27000" y="4228920"/>
              <a:ext cx="120636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724280" y="4038480"/>
            <a:ext cx="1592280" cy="457200"/>
            <a:chOff x="4724280" y="4038480"/>
            <a:chExt cx="1592280" cy="457200"/>
          </a:xfrm>
        </p:grpSpPr>
        <p:sp>
          <p:nvSpPr>
            <p:cNvPr id="197" name=""/>
            <p:cNvSpPr/>
            <p:nvPr/>
          </p:nvSpPr>
          <p:spPr>
            <a:xfrm>
              <a:off x="4724280" y="4038480"/>
              <a:ext cx="15922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1800" y="4152600"/>
              <a:ext cx="1137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ROMBO ABIE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744640" y="4338720"/>
            <a:ext cx="1675080" cy="685800"/>
            <a:chOff x="2744640" y="4338720"/>
            <a:chExt cx="1675080" cy="685800"/>
          </a:xfrm>
        </p:grpSpPr>
        <p:sp>
          <p:nvSpPr>
            <p:cNvPr id="202" name=""/>
            <p:cNvSpPr/>
            <p:nvPr/>
          </p:nvSpPr>
          <p:spPr>
            <a:xfrm>
              <a:off x="2744640" y="4338720"/>
              <a:ext cx="167508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1560" y="4454280"/>
              <a:ext cx="11822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473200" y="1839960"/>
            <a:ext cx="1774800" cy="455400"/>
            <a:chOff x="2473200" y="1839960"/>
            <a:chExt cx="1774800" cy="455400"/>
          </a:xfrm>
        </p:grpSpPr>
        <p:sp>
          <p:nvSpPr>
            <p:cNvPr id="205" name=""/>
            <p:cNvSpPr/>
            <p:nvPr/>
          </p:nvSpPr>
          <p:spPr>
            <a:xfrm>
              <a:off x="2473200" y="1839960"/>
              <a:ext cx="1774800" cy="455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6640" y="1953720"/>
              <a:ext cx="1267560" cy="227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76200" y="3246480"/>
            <a:ext cx="1919520" cy="457200"/>
            <a:chOff x="1276200" y="3246480"/>
            <a:chExt cx="1919520" cy="457200"/>
          </a:xfrm>
        </p:grpSpPr>
        <p:sp>
          <p:nvSpPr>
            <p:cNvPr id="208" name=""/>
            <p:cNvSpPr/>
            <p:nvPr/>
          </p:nvSpPr>
          <p:spPr>
            <a:xfrm>
              <a:off x="1276200" y="3246480"/>
              <a:ext cx="19195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13000" y="3362040"/>
              <a:ext cx="1512000" cy="22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895480" y="7315200"/>
            <a:ext cx="1698840" cy="461880"/>
            <a:chOff x="2895480" y="7315200"/>
            <a:chExt cx="1698840" cy="461880"/>
          </a:xfrm>
        </p:grpSpPr>
        <p:sp>
          <p:nvSpPr>
            <p:cNvPr id="211" name=""/>
            <p:cNvSpPr/>
            <p:nvPr/>
          </p:nvSpPr>
          <p:spPr>
            <a:xfrm>
              <a:off x="2895480" y="7315200"/>
              <a:ext cx="1698840" cy="46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38120" y="7430760"/>
              <a:ext cx="1331280" cy="229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Eq. 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267080" y="5943600"/>
            <a:ext cx="1675080" cy="457200"/>
            <a:chOff x="4267080" y="5943600"/>
            <a:chExt cx="1675080" cy="457200"/>
          </a:xfrm>
        </p:grpSpPr>
        <p:sp>
          <p:nvSpPr>
            <p:cNvPr id="214" name=""/>
            <p:cNvSpPr/>
            <p:nvPr/>
          </p:nvSpPr>
          <p:spPr>
            <a:xfrm>
              <a:off x="4267080" y="5943600"/>
              <a:ext cx="16750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86600" y="6056640"/>
              <a:ext cx="14324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267080" y="3048120"/>
            <a:ext cx="1776600" cy="457200"/>
            <a:chOff x="4267080" y="3048120"/>
            <a:chExt cx="1776600" cy="457200"/>
          </a:xfrm>
        </p:grpSpPr>
        <p:sp>
          <p:nvSpPr>
            <p:cNvPr id="217" name=""/>
            <p:cNvSpPr/>
            <p:nvPr/>
          </p:nvSpPr>
          <p:spPr>
            <a:xfrm>
              <a:off x="4267080" y="3048120"/>
              <a:ext cx="17766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20880" y="3162240"/>
              <a:ext cx="126900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371600" y="5943600"/>
            <a:ext cx="1843200" cy="457200"/>
            <a:chOff x="1371600" y="5943600"/>
            <a:chExt cx="1843200" cy="457200"/>
          </a:xfrm>
        </p:grpSpPr>
        <p:sp>
          <p:nvSpPr>
            <p:cNvPr id="220" name=""/>
            <p:cNvSpPr/>
            <p:nvPr/>
          </p:nvSpPr>
          <p:spPr>
            <a:xfrm>
              <a:off x="1371600" y="5943600"/>
              <a:ext cx="1843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4760" y="6057720"/>
              <a:ext cx="131652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57200" y="4495680"/>
            <a:ext cx="1768320" cy="457200"/>
            <a:chOff x="457200" y="4495680"/>
            <a:chExt cx="1768320" cy="457200"/>
          </a:xfrm>
        </p:grpSpPr>
        <p:sp>
          <p:nvSpPr>
            <p:cNvPr id="223" name=""/>
            <p:cNvSpPr/>
            <p:nvPr/>
          </p:nvSpPr>
          <p:spPr>
            <a:xfrm>
              <a:off x="457200" y="4495680"/>
              <a:ext cx="17683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9560" y="4609800"/>
              <a:ext cx="12628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00600" y="4572000"/>
            <a:ext cx="1666800" cy="457200"/>
            <a:chOff x="4800600" y="4572000"/>
            <a:chExt cx="1666800" cy="457200"/>
          </a:xfrm>
        </p:grpSpPr>
        <p:sp>
          <p:nvSpPr>
            <p:cNvPr id="226" name=""/>
            <p:cNvSpPr/>
            <p:nvPr/>
          </p:nvSpPr>
          <p:spPr>
            <a:xfrm>
              <a:off x="4800600" y="4572000"/>
              <a:ext cx="16668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38560" y="4686120"/>
              <a:ext cx="119052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0000"/>
                </a:solidFill>
                <a:uFillTx/>
                <a:latin typeface="Times New Roman"/>
              </a:rPr>
              <a:t>COLUMNA DE U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90920" y="1981080"/>
            <a:ext cx="1600200" cy="685800"/>
            <a:chOff x="2590920" y="1981080"/>
            <a:chExt cx="1600200" cy="685800"/>
          </a:xfrm>
        </p:grpSpPr>
        <p:sp>
          <p:nvSpPr>
            <p:cNvPr id="231" name=""/>
            <p:cNvSpPr/>
            <p:nvPr/>
          </p:nvSpPr>
          <p:spPr>
            <a:xfrm>
              <a:off x="2590920" y="1981080"/>
              <a:ext cx="160020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9200" y="2096640"/>
              <a:ext cx="11296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3581280"/>
            <a:ext cx="1697040" cy="457200"/>
            <a:chOff x="2514600" y="3581280"/>
            <a:chExt cx="1697040" cy="457200"/>
          </a:xfrm>
        </p:grpSpPr>
        <p:sp>
          <p:nvSpPr>
            <p:cNvPr id="234" name=""/>
            <p:cNvSpPr/>
            <p:nvPr/>
          </p:nvSpPr>
          <p:spPr>
            <a:xfrm>
              <a:off x="2514600" y="358128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56880" y="369540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14600" y="2895480"/>
            <a:ext cx="1689120" cy="457200"/>
            <a:chOff x="2514600" y="2895480"/>
            <a:chExt cx="1689120" cy="457200"/>
          </a:xfrm>
        </p:grpSpPr>
        <p:sp>
          <p:nvSpPr>
            <p:cNvPr id="237" name=""/>
            <p:cNvSpPr/>
            <p:nvPr/>
          </p:nvSpPr>
          <p:spPr>
            <a:xfrm>
              <a:off x="2514600" y="2895480"/>
              <a:ext cx="1689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35200" y="3011040"/>
              <a:ext cx="1330560" cy="22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6400800"/>
            <a:ext cx="1622160" cy="463680"/>
            <a:chOff x="2590920" y="6400800"/>
            <a:chExt cx="1622160" cy="463680"/>
          </a:xfrm>
        </p:grpSpPr>
        <p:sp>
          <p:nvSpPr>
            <p:cNvPr id="240" name=""/>
            <p:cNvSpPr/>
            <p:nvPr/>
          </p:nvSpPr>
          <p:spPr>
            <a:xfrm>
              <a:off x="2590920" y="6400800"/>
              <a:ext cx="1622160" cy="463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2400" y="6516720"/>
              <a:ext cx="1271160" cy="230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590920" y="5715000"/>
            <a:ext cx="1600200" cy="457200"/>
            <a:chOff x="2590920" y="5715000"/>
            <a:chExt cx="1600200" cy="457200"/>
          </a:xfrm>
        </p:grpSpPr>
        <p:sp>
          <p:nvSpPr>
            <p:cNvPr id="243" name=""/>
            <p:cNvSpPr/>
            <p:nvPr/>
          </p:nvSpPr>
          <p:spPr>
            <a:xfrm>
              <a:off x="2590920" y="571500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05040" y="5828040"/>
              <a:ext cx="136836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514600" y="4343400"/>
            <a:ext cx="1697040" cy="457200"/>
            <a:chOff x="2514600" y="4343400"/>
            <a:chExt cx="1697040" cy="457200"/>
          </a:xfrm>
        </p:grpSpPr>
        <p:sp>
          <p:nvSpPr>
            <p:cNvPr id="246" name=""/>
            <p:cNvSpPr/>
            <p:nvPr/>
          </p:nvSpPr>
          <p:spPr>
            <a:xfrm>
              <a:off x="2514600" y="4343400"/>
              <a:ext cx="169704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56880" y="4457520"/>
              <a:ext cx="12121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90920" y="7086600"/>
            <a:ext cx="1600200" cy="457200"/>
            <a:chOff x="2590920" y="7086600"/>
            <a:chExt cx="1600200" cy="457200"/>
          </a:xfrm>
        </p:grpSpPr>
        <p:sp>
          <p:nvSpPr>
            <p:cNvPr id="249" name=""/>
            <p:cNvSpPr/>
            <p:nvPr/>
          </p:nvSpPr>
          <p:spPr>
            <a:xfrm>
              <a:off x="2590920" y="7086600"/>
              <a:ext cx="1600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9520" y="7200720"/>
              <a:ext cx="114300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14600" y="1295280"/>
            <a:ext cx="1689120" cy="457200"/>
            <a:chOff x="2514600" y="1295280"/>
            <a:chExt cx="1689120" cy="457200"/>
          </a:xfrm>
        </p:grpSpPr>
        <p:sp>
          <p:nvSpPr>
            <p:cNvPr id="252" name=""/>
            <p:cNvSpPr/>
            <p:nvPr/>
          </p:nvSpPr>
          <p:spPr>
            <a:xfrm>
              <a:off x="2514600" y="1295280"/>
              <a:ext cx="1689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55800" y="1409400"/>
              <a:ext cx="120636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590920" y="5029200"/>
            <a:ext cx="1592280" cy="457200"/>
            <a:chOff x="2590920" y="5029200"/>
            <a:chExt cx="1592280" cy="457200"/>
          </a:xfrm>
        </p:grpSpPr>
        <p:sp>
          <p:nvSpPr>
            <p:cNvPr id="255" name=""/>
            <p:cNvSpPr/>
            <p:nvPr/>
          </p:nvSpPr>
          <p:spPr>
            <a:xfrm>
              <a:off x="2590920" y="5029200"/>
              <a:ext cx="15922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8440" y="5143320"/>
              <a:ext cx="1137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641400" y="7536960"/>
            <a:ext cx="489600" cy="1382040"/>
            <a:chOff x="3641400" y="7536960"/>
            <a:chExt cx="489600" cy="1382040"/>
          </a:xfrm>
        </p:grpSpPr>
        <p:sp>
          <p:nvSpPr>
            <p:cNvPr id="259" name=""/>
            <p:cNvSpPr/>
            <p:nvPr/>
          </p:nvSpPr>
          <p:spPr>
            <a:xfrm rot="5318400">
              <a:off x="3200400" y="7999200"/>
              <a:ext cx="13716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318400">
              <a:off x="3396600" y="8113680"/>
              <a:ext cx="97956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38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br>
              <a:rPr sz="4400"/>
            </a:b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Í</a:t>
            </a:r>
            <a:br>
              <a:rPr sz="4400"/>
            </a:b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184560" y="1136880"/>
            <a:ext cx="568800" cy="1299600"/>
            <a:chOff x="3184560" y="1136880"/>
            <a:chExt cx="568800" cy="1299600"/>
          </a:xfrm>
        </p:grpSpPr>
        <p:sp>
          <p:nvSpPr>
            <p:cNvPr id="263" name=""/>
            <p:cNvSpPr/>
            <p:nvPr/>
          </p:nvSpPr>
          <p:spPr>
            <a:xfrm rot="5318400">
              <a:off x="2825280" y="1517400"/>
              <a:ext cx="1287360" cy="538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318400">
              <a:off x="3012480" y="1568880"/>
              <a:ext cx="908640" cy="35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efe de Escua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189960" y="3116520"/>
            <a:ext cx="709920" cy="1234440"/>
            <a:chOff x="3189960" y="3116520"/>
            <a:chExt cx="709920" cy="1234440"/>
          </a:xfrm>
        </p:grpSpPr>
        <p:sp>
          <p:nvSpPr>
            <p:cNvPr id="266" name=""/>
            <p:cNvSpPr/>
            <p:nvPr/>
          </p:nvSpPr>
          <p:spPr>
            <a:xfrm rot="5322600">
              <a:off x="2935080" y="3392280"/>
              <a:ext cx="1219320" cy="68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322600">
              <a:off x="3109320" y="3562920"/>
              <a:ext cx="870840" cy="341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Al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490560" y="2049840"/>
            <a:ext cx="713160" cy="1313640"/>
            <a:chOff x="3490560" y="2049840"/>
            <a:chExt cx="713160" cy="1313640"/>
          </a:xfrm>
        </p:grpSpPr>
        <p:sp>
          <p:nvSpPr>
            <p:cNvPr id="269" name=""/>
            <p:cNvSpPr/>
            <p:nvPr/>
          </p:nvSpPr>
          <p:spPr>
            <a:xfrm rot="5322600">
              <a:off x="3197880" y="2364480"/>
              <a:ext cx="1298520" cy="684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322600">
              <a:off x="3333960" y="2491200"/>
              <a:ext cx="1022760" cy="339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 </a:t>
              </a:r>
              <a:r>
                <a:rPr b="1" lang="es-MX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413160" y="6717600"/>
            <a:ext cx="495360" cy="1364760"/>
            <a:chOff x="3413160" y="6717600"/>
            <a:chExt cx="495360" cy="1364760"/>
          </a:xfrm>
        </p:grpSpPr>
        <p:sp>
          <p:nvSpPr>
            <p:cNvPr id="272" name=""/>
            <p:cNvSpPr/>
            <p:nvPr/>
          </p:nvSpPr>
          <p:spPr>
            <a:xfrm rot="5320200">
              <a:off x="2983680" y="7167960"/>
              <a:ext cx="1354320" cy="463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320200">
              <a:off x="3131640" y="7331760"/>
              <a:ext cx="1061280" cy="230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Jefe de Eq. Bra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642120" y="5784120"/>
            <a:ext cx="641880" cy="1306080"/>
            <a:chOff x="3642120" y="5784120"/>
            <a:chExt cx="641880" cy="1306080"/>
          </a:xfrm>
        </p:grpSpPr>
        <p:sp>
          <p:nvSpPr>
            <p:cNvPr id="275" name=""/>
            <p:cNvSpPr/>
            <p:nvPr/>
          </p:nvSpPr>
          <p:spPr>
            <a:xfrm rot="5318400">
              <a:off x="3317040" y="6131520"/>
              <a:ext cx="1292040" cy="611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318400">
              <a:off x="3412800" y="6283080"/>
              <a:ext cx="11048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 Granad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567240" y="4031640"/>
            <a:ext cx="635400" cy="1235880"/>
            <a:chOff x="3567240" y="4031640"/>
            <a:chExt cx="635400" cy="1235880"/>
          </a:xfrm>
        </p:grpSpPr>
        <p:sp>
          <p:nvSpPr>
            <p:cNvPr id="278" name=""/>
            <p:cNvSpPr/>
            <p:nvPr/>
          </p:nvSpPr>
          <p:spPr>
            <a:xfrm rot="5322600">
              <a:off x="3273480" y="4345560"/>
              <a:ext cx="1222560" cy="6080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322600">
              <a:off x="3448800" y="4497480"/>
              <a:ext cx="873000" cy="303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T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415680" y="380520"/>
            <a:ext cx="632160" cy="1149840"/>
            <a:chOff x="3415680" y="380520"/>
            <a:chExt cx="632160" cy="1149840"/>
          </a:xfrm>
        </p:grpSpPr>
        <p:sp>
          <p:nvSpPr>
            <p:cNvPr id="281" name=""/>
            <p:cNvSpPr/>
            <p:nvPr/>
          </p:nvSpPr>
          <p:spPr>
            <a:xfrm rot="5322600">
              <a:off x="3163320" y="651960"/>
              <a:ext cx="1136520" cy="606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322600">
              <a:off x="3326040" y="803880"/>
              <a:ext cx="811800" cy="303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62320" y="4945680"/>
            <a:ext cx="659520" cy="1186560"/>
            <a:chOff x="3262320" y="4945680"/>
            <a:chExt cx="659520" cy="1186560"/>
          </a:xfrm>
        </p:grpSpPr>
        <p:sp>
          <p:nvSpPr>
            <p:cNvPr id="284" name=""/>
            <p:cNvSpPr/>
            <p:nvPr/>
          </p:nvSpPr>
          <p:spPr>
            <a:xfrm rot="5318400">
              <a:off x="3006000" y="5222880"/>
              <a:ext cx="1171800" cy="631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318400">
              <a:off x="3173400" y="5380920"/>
              <a:ext cx="837000" cy="31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sil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648320" y="342900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em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762120"/>
            <a:ext cx="5638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Gracias por su Aten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289" name="PE02088_" descr=""/>
          <p:cNvPicPr/>
          <p:nvPr/>
        </p:nvPicPr>
        <p:blipFill>
          <a:blip r:embed="rId3"/>
          <a:stretch/>
        </p:blipFill>
        <p:spPr>
          <a:xfrm>
            <a:off x="762120" y="3073320"/>
            <a:ext cx="5263920" cy="3443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600200" y="66294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Medina Colón Ant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tte. (Ej.) Sojo Hernández Fer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80773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visado´por el Tte. (Ej.) Ángel Balestrini Jaram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0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ORMACIONES DE LA ESCUADRA</a:t>
            </a:r>
            <a:br>
              <a:rPr sz="36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ormaciones de combate de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cuadra, son agrupaciones de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os,    adoptadas para lograr su más eficiente empleo táctico en el combate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1143360" y="4800240"/>
            <a:ext cx="662940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IPOS DE FORMACION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En Rombo  Cer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 En  Rombo Abi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  En Línea de Ti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  En Columna de Marc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   En Columna de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ÑALES DE BRAZOS Y MANOS</a:t>
            </a:r>
            <a:br>
              <a:rPr sz="3200"/>
            </a:b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edios comunes de transmitir mensajes visuales, lo que permite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a un mayor control entre el soldado y otras personas o 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4114440"/>
            <a:ext cx="582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0000"/>
                </a:solidFill>
                <a:uFillTx/>
                <a:latin typeface="Times New Roman"/>
              </a:rPr>
              <a:t>TIPOS DE SEÑALES DE BRAZOS Y M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 ROM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LUMNA DE MARC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LUMNA DE U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O COMPR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EMIGO A LA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MPAN FU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ESEN FU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ALAR BAYON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DRA EN LINE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43000" y="2895480"/>
            <a:ext cx="4800600" cy="4676760"/>
            <a:chOff x="1143000" y="2895480"/>
            <a:chExt cx="4800600" cy="4676760"/>
          </a:xfrm>
        </p:grpSpPr>
        <p:pic>
          <p:nvPicPr>
            <p:cNvPr id="58" name="MVC-006F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1143000" y="2895480"/>
              <a:ext cx="4800600" cy="46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85720" y="3227760"/>
              <a:ext cx="4114800" cy="457200"/>
            </a:xfrm>
            <a:prstGeom prst="leftRightArrow">
              <a:avLst>
                <a:gd name="adj1" fmla="val 50000"/>
                <a:gd name="adj2" fmla="val 1791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DRA EN ROMB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VC-012F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514440" y="2743200"/>
            <a:ext cx="5829120" cy="479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DRA EN 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590920"/>
            <a:ext cx="5867280" cy="5562360"/>
            <a:chOff x="533520" y="2590920"/>
            <a:chExt cx="5867280" cy="5562360"/>
          </a:xfrm>
        </p:grpSpPr>
        <p:pic>
          <p:nvPicPr>
            <p:cNvPr id="67" name="MVC-006F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533520" y="2590920"/>
              <a:ext cx="586728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7181400">
              <a:off x="1577880" y="4114440"/>
              <a:ext cx="3974040" cy="2743560"/>
            </a:xfrm>
            <a:custGeom>
              <a:avLst/>
              <a:gdLst>
                <a:gd name="textAreaLeft" fmla="*/ 0 w 3974040"/>
                <a:gd name="textAreaRight" fmla="*/ 3974400 w 3974040"/>
                <a:gd name="textAreaTop" fmla="*/ 0 h 2743560"/>
                <a:gd name="textAreaBottom" fmla="*/ 2743920 h 274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66" y="10784"/>
                  </a:moveTo>
                  <a:arcTo wR="-9434" hR="-9434" stAng="-10794170" swAng="-15367891"/>
                  <a:lnTo>
                    <a:pt x="8194" y="21281"/>
                  </a:lnTo>
                  <a:arcTo wR="10800" hR="10800" stAng="6237939" swAng="15367891"/>
                  <a:lnTo>
                    <a:pt x="24300" y="10823"/>
                  </a:lnTo>
                  <a:lnTo>
                    <a:pt x="20911" y="14200"/>
                  </a:lnTo>
                  <a:lnTo>
                    <a:pt x="17534" y="108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GANME (AVANCE)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3520" y="2590920"/>
            <a:ext cx="5867280" cy="5524560"/>
            <a:chOff x="533520" y="2590920"/>
            <a:chExt cx="5867280" cy="5524560"/>
          </a:xfrm>
        </p:grpSpPr>
        <p:pic>
          <p:nvPicPr>
            <p:cNvPr id="73" name="MVC-001F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533520" y="2590920"/>
              <a:ext cx="5867280" cy="55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622520" y="2748960"/>
              <a:ext cx="3088440" cy="890640"/>
            </a:xfrm>
            <a:custGeom>
              <a:avLst/>
              <a:gdLst>
                <a:gd name="textAreaLeft" fmla="*/ 585000 w 3088440"/>
                <a:gd name="textAreaRight" fmla="*/ 2015280 w 3088440"/>
                <a:gd name="textAreaTop" fmla="*/ 119160 h 890640"/>
                <a:gd name="textAreaBottom" fmla="*/ 771480 h 8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186" hR="21600" stAng="10800000" swAng="5400000"/>
                  <a:lnTo>
                    <a:pt x="10002" y="0"/>
                  </a:lnTo>
                  <a:arcTo wR="8186" hR="21600" stAng="-5400000" swAng="1132966"/>
                  <a:lnTo>
                    <a:pt x="18899" y="5565"/>
                  </a:lnTo>
                  <a:lnTo>
                    <a:pt x="17280" y="21600"/>
                  </a:lnTo>
                  <a:lnTo>
                    <a:pt x="10259" y="5565"/>
                  </a:lnTo>
                  <a:lnTo>
                    <a:pt x="13671" y="5565"/>
                  </a:lnTo>
                  <a:arcTo wR="8186" hR="21600" stAng="-4267034" swAng="-987643"/>
                  <a:lnTo>
                    <a:pt x="9094" y="133"/>
                  </a:lnTo>
                  <a:arcTo wR="8186" hR="21600" stAng="-5545323" swAng="-5254677"/>
                  <a:close/>
                </a:path>
                <a:path fill="darkenLess" w="21600" h="21600">
                  <a:moveTo>
                    <a:pt x="0" y="21600"/>
                  </a:moveTo>
                  <a:arcTo wR="8186" hR="21600" stAng="10800000" swAng="5400000"/>
                  <a:lnTo>
                    <a:pt x="8186" y="0"/>
                  </a:lnTo>
                  <a:arcTo wR="8186" hR="21600" stAng="-5400000" swAng="145323"/>
                  <a:lnTo>
                    <a:pt x="9094" y="133"/>
                  </a:lnTo>
                  <a:arcTo wR="8186" hR="21600" stAng="-5545323" swAng="-5254677"/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3520" y="2590920"/>
            <a:ext cx="5790600" cy="5562000"/>
            <a:chOff x="533520" y="2590920"/>
            <a:chExt cx="5790600" cy="5562000"/>
          </a:xfrm>
        </p:grpSpPr>
        <p:pic>
          <p:nvPicPr>
            <p:cNvPr id="78" name="MVC-003F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533520" y="2632680"/>
              <a:ext cx="2968920" cy="25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MVC-004F" descr=""/>
            <p:cNvPicPr/>
            <p:nvPr/>
          </p:nvPicPr>
          <p:blipFill>
            <a:blip r:embed="rId2">
              <a:lum bright="24000"/>
            </a:blip>
            <a:stretch/>
          </p:blipFill>
          <p:spPr>
            <a:xfrm>
              <a:off x="3484440" y="2627640"/>
              <a:ext cx="2839680" cy="258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MVC-005F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1821600" y="5461920"/>
              <a:ext cx="3586320" cy="269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"/>
            <p:cNvGrpSpPr/>
            <p:nvPr/>
          </p:nvGrpSpPr>
          <p:grpSpPr>
            <a:xfrm>
              <a:off x="1807200" y="5344920"/>
              <a:ext cx="1905120" cy="885600"/>
              <a:chOff x="1807200" y="5344920"/>
              <a:chExt cx="1905120" cy="885600"/>
            </a:xfrm>
          </p:grpSpPr>
          <p:sp>
            <p:nvSpPr>
              <p:cNvPr id="82" name=""/>
              <p:cNvSpPr/>
              <p:nvPr/>
            </p:nvSpPr>
            <p:spPr>
              <a:xfrm>
                <a:off x="2865600" y="5443560"/>
                <a:ext cx="846720" cy="786960"/>
              </a:xfrm>
              <a:custGeom>
                <a:avLst/>
                <a:gdLst>
                  <a:gd name="textAreaLeft" fmla="*/ 113400 w 846720"/>
                  <a:gd name="textAreaRight" fmla="*/ 733320 w 846720"/>
                  <a:gd name="textAreaTop" fmla="*/ 137520 h 786960"/>
                  <a:gd name="textAreaBottom" fmla="*/ 570600 h 78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807200" y="5344560"/>
                <a:ext cx="635040" cy="885240"/>
              </a:xfrm>
              <a:custGeom>
                <a:avLst/>
                <a:gdLst>
                  <a:gd name="textAreaLeft" fmla="*/ 84960 w 635040"/>
                  <a:gd name="textAreaRight" fmla="*/ 550080 w 635040"/>
                  <a:gd name="textAreaTop" fmla="*/ 154800 h 885240"/>
                  <a:gd name="textAreaBottom" fmla="*/ 641880 h 88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3841560" y="2590920"/>
              <a:ext cx="1412640" cy="890640"/>
              <a:chOff x="3841560" y="2590920"/>
              <a:chExt cx="1412640" cy="890640"/>
            </a:xfrm>
          </p:grpSpPr>
          <p:sp>
            <p:nvSpPr>
              <p:cNvPr id="85" name=""/>
              <p:cNvSpPr/>
              <p:nvPr/>
            </p:nvSpPr>
            <p:spPr>
              <a:xfrm>
                <a:off x="4626360" y="2689920"/>
                <a:ext cx="627840" cy="791640"/>
              </a:xfrm>
              <a:custGeom>
                <a:avLst/>
                <a:gdLst>
                  <a:gd name="textAreaLeft" fmla="*/ 83880 w 627840"/>
                  <a:gd name="textAreaRight" fmla="*/ 543960 w 627840"/>
                  <a:gd name="textAreaTop" fmla="*/ 138600 h 791640"/>
                  <a:gd name="textAreaBottom" fmla="*/ 574200 h 79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3841560" y="2590920"/>
                <a:ext cx="470880" cy="890640"/>
              </a:xfrm>
              <a:custGeom>
                <a:avLst/>
                <a:gdLst>
                  <a:gd name="textAreaLeft" fmla="*/ 63000 w 470880"/>
                  <a:gd name="textAreaRight" fmla="*/ 407880 w 470880"/>
                  <a:gd name="textAreaTop" fmla="*/ 156240 h 890640"/>
                  <a:gd name="textAreaBottom" fmla="*/ 6462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57800" y="2696400"/>
              <a:ext cx="1565280" cy="889920"/>
              <a:chOff x="757800" y="2696400"/>
              <a:chExt cx="1565280" cy="889920"/>
            </a:xfrm>
          </p:grpSpPr>
          <p:sp>
            <p:nvSpPr>
              <p:cNvPr id="88" name=""/>
              <p:cNvSpPr/>
              <p:nvPr/>
            </p:nvSpPr>
            <p:spPr>
              <a:xfrm>
                <a:off x="1627560" y="2795040"/>
                <a:ext cx="695520" cy="790920"/>
              </a:xfrm>
              <a:custGeom>
                <a:avLst/>
                <a:gdLst>
                  <a:gd name="textAreaLeft" fmla="*/ 92880 w 695520"/>
                  <a:gd name="textAreaRight" fmla="*/ 602640 w 695520"/>
                  <a:gd name="textAreaTop" fmla="*/ 138240 h 790920"/>
                  <a:gd name="textAreaBottom" fmla="*/ 573480 h 79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757440" y="2696400"/>
                <a:ext cx="521640" cy="889920"/>
              </a:xfrm>
              <a:custGeom>
                <a:avLst/>
                <a:gdLst>
                  <a:gd name="textAreaLeft" fmla="*/ 69840 w 521640"/>
                  <a:gd name="textAreaRight" fmla="*/ 451800 w 521640"/>
                  <a:gd name="textAreaTop" fmla="*/ 155520 h 889920"/>
                  <a:gd name="textAreaBottom" fmla="*/ 645120 h 88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304920" y="304920"/>
            <a:ext cx="6248160" cy="8610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2:20:15Z</dcterms:created>
  <dc:creator>Tte. (Ej.) Ángel Balestrini J.</dc:creator>
  <dc:description/>
  <dc:language>en-US</dc:language>
  <cp:lastModifiedBy>carlos martinez</cp:lastModifiedBy>
  <dcterms:modified xsi:type="dcterms:W3CDTF">2001-09-30T21:49:14Z</dcterms:modified>
  <cp:revision>20</cp:revision>
  <dc:subject/>
  <dc:title>Ayuda de Instrucción Orden Abierto</dc:title>
</cp:coreProperties>
</file>